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1B27DD-C050-43A5-9004-E62740527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C3AF-0317-40FB-AD20-E48E18091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24E7-D8FB-4F1C-AB43-C384F849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9559-2167-49AA-8C43-7FCAE1064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6372-3565-4600-B8E0-41BA278F9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D315-12F1-4B91-AD9A-8C736BDB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E483-0C55-4DCA-9D9A-70F238BD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94F7-D71E-4E6C-AF02-6701BF0C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FDA9-7667-44AD-B1BB-5642ED79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EB6E-A56C-4277-9F7B-384B9D50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9F60-30F6-4B77-A245-56A75A58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610D-9010-47EF-BD21-E7787DF3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F54A-D81B-4D4A-8BBB-726B5E06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C9BAA-70CD-4653-9CD5-3C4230263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c500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14400" y="485640"/>
            <a:ext cx="800100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1420" dir="2700000" blurRad="0" rotWithShape="0">
                    <a:srgbClr val="000000"/>
                  </a:outerShdw>
                </a:effectLst>
                <a:latin typeface="Times New Roman"/>
              </a:rPr>
              <a:t>Monk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1420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4605480"/>
            <a:ext cx="457200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 Montgom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ic Kreis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n Wierbo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c500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e Fur Fasten to his ch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d head was Shi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 Prominent E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ves and hood were fine f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le boo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291280" y="1768320"/>
            <a:ext cx="41497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c500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bot – Head of monast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ble – pleasing in behavior and apper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ate – Bishop of superior ra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inty - Excell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4778280" cy="48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c500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nks attributes place him in the clergy e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let go the things of yesterday, and took the modern worlds appro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loved to hu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a very manly m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03280" y="1803240"/>
            <a:ext cx="4425840" cy="49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c500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78040" y="1768320"/>
            <a:ext cx="3678120" cy="49896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nk was a man of high st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a man of God. And although he was expected to follow strict rules, he took a more modern appro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a one of a kind mo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c5000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26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4360" indent="-68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blical allusions of St. Benet and St. Ma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ible for making and introducing behavior of monk to Fr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43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5840" cy="4926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4360" indent="-68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. Augustine of Hippo who encouraged monks engaging in agriculture lab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leads back to the monk's love for hun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3:53:10Z</dcterms:created>
  <dc:creator>PCSC</dc:creator>
  <dc:description/>
  <dc:language>en-US</dc:language>
  <cp:lastModifiedBy>PHS</cp:lastModifiedBy>
  <dcterms:modified xsi:type="dcterms:W3CDTF">2009-10-21T13:24:22Z</dcterms:modified>
  <cp:revision>1</cp:revision>
  <dc:subject/>
  <dc:title>Slide 1</dc:title>
</cp:coreProperties>
</file>